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AD2-B2D9-450A-B39B-360D2C2B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48A-B604-4BB4-8686-80BBC540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296-B79E-46F9-B796-5CCD6113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43F-A4DE-4462-AA7E-06FACBC1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DCB-1B8A-40E3-B12B-5EF3AB5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565-FF7B-4E1E-899F-E86F83B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9B0-CD5D-4847-A831-29D99D30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124-8D13-4233-87DC-1506517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31E-A17D-48BB-9AEE-E4169656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819-96BE-46B3-A285-80540BC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0E9-6E88-4E4E-BC5E-05EB3BA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E07-7DEB-4B3A-9567-931BC3F4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57E-6F87-49BF-87BB-0F5E0F381A9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7 Spasiteľ zve ť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ane, idem u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iteľ zve 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poď k nemu dne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ným srdco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eť mu n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primnú vďak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chválu a č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vať mu z lásky po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ane, idem u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ď domov, dieť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ď, kým je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lá ťa jeho láskav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vie, či zajtra ozve sa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meškaj už, len p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ane, idem u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 smelo, blízko je Pán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hriešnych znášal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esti rá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údiacich volá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všetkých st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čuj len, ver a p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23:36Z</dcterms:modified>
  <cp:revision>30</cp:revision>
  <dc:subject/>
  <dc:title>Je veľký náš Pán, on slávy je Kráľ Nech do všetkých strán  spev vrúcnych znie chvál.</dc:title>
</cp:coreProperties>
</file>